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66408"/>
        <c:axId val="35085788"/>
      </c:barChart>
      <c:catAx>
        <c:axId val="10266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5788"/>
        <c:crosses val="autoZero"/>
        <c:auto val="1"/>
        <c:lblAlgn val="ctr"/>
        <c:lblOffset val="100"/>
        <c:noMultiLvlLbl val="0"/>
      </c:catAx>
      <c:valAx>
        <c:axId val="35085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6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5D6-F945-4CFF-B9B3-CB110EF3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F94-1623-4E23-AA53-BCBC8E93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E71-B3D7-448F-9441-602D3EE1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00F-150D-40C4-B4CD-B9F2F8ED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A1F-444C-4D56-AC2F-B116741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D66-437D-43AD-A5DA-F525779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A38-5B3D-4A2B-B3B6-078DE68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ABC-2041-4CCB-9224-9E692D5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D28-D7D6-4FF8-8218-E5D8505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012-61EC-4C74-A5DC-0412C48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95C-F241-41D1-A31E-511AC0B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742-319D-41D8-81C5-0BA626B2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EABB1-6B8D-4DF5-8B36-AF559EEFD0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