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15996"/>
        <c:axId val="82038469"/>
      </c:barChart>
      <c:catAx>
        <c:axId val="64159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038469"/>
        <c:crosses val="autoZero"/>
        <c:auto val="1"/>
        <c:lblAlgn val="ctr"/>
        <c:lblOffset val="100"/>
        <c:noMultiLvlLbl val="0"/>
      </c:catAx>
      <c:valAx>
        <c:axId val="820384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159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C018-FE64-4734-96A3-5C8E29ED0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AB42-4B65-4154-86DE-5B0375415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A059-B166-4046-B2C8-97243ECC6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8B4B-5DB0-4475-B814-08908843D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6AD9-61A4-4818-A94A-7178FCE7A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8046-7FFA-447B-AE7D-BB0017ADE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06C1-49A0-4323-AF8B-FEB975346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C946-BB87-4999-B539-B34E37105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9410-A5E4-484F-BCA8-1D85C10CF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5557-E20A-49DA-9097-99D6E4EE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CAE9-CCC0-478E-B2A9-DA0A56FB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E924-95AA-41A7-9CF0-667287CE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A08883-6CEE-4816-B11E-9A8EAE6DE2C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