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16237"/>
        <c:axId val="12924543"/>
      </c:barChart>
      <c:catAx>
        <c:axId val="90316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24543"/>
        <c:crosses val="autoZero"/>
        <c:auto val="1"/>
        <c:lblAlgn val="ctr"/>
        <c:lblOffset val="100"/>
        <c:noMultiLvlLbl val="0"/>
      </c:catAx>
      <c:valAx>
        <c:axId val="12924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16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94B-B9C5-44CC-802C-E39FDE4D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845-32B6-4595-8EEB-5CAFAF76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68F-F378-4715-9088-0A9BCFEF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FA0-0EE3-48C8-AC67-9DB45ED2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EF6-72BF-4C73-BD64-C8974C70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58B-366E-4BE6-A64C-D4E28237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E1C-D45B-4606-8EC5-AA6238D4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FC9-A237-4170-9365-65CFFCF1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CD8-D2CE-4D8E-8AAF-6DDB4030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34C-EFAA-4AA2-A2F1-EBDBAE1F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B00-FF7E-476D-8D6C-C4BF7749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C29-B5C5-41D9-B367-623E891E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F13BE-1820-431B-AE9D-F8E74EA654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