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12668"/>
        <c:axId val="61848821"/>
      </c:barChart>
      <c:catAx>
        <c:axId val="67712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48821"/>
        <c:crosses val="autoZero"/>
        <c:auto val="1"/>
        <c:lblAlgn val="ctr"/>
        <c:lblOffset val="100"/>
        <c:noMultiLvlLbl val="0"/>
      </c:catAx>
      <c:valAx>
        <c:axId val="61848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12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CB4-4164-45CB-8AEE-E71EE105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41C-9D6E-4F9A-89D8-B7A6D513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F6D-4B52-43E4-84B8-57E0A740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6B8-2579-44C9-AA37-B3A73EAB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968-6AB2-4A74-8435-B8C81F18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AC3-ACBC-4124-B392-257C4D1C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468-F942-4CC8-B018-2F84DEB0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082-F841-4FFE-BD36-73C8803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018-CACA-4CD2-B5DF-41F6A4F8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B8C-F950-426C-B6B6-31C31660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E82-D6D7-459F-AEC2-438D86B0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C0C-4B2E-46F4-B5F8-325230E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8C069-E3DB-4737-B627-CCC4976DA2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