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86219"/>
        <c:axId val="22646700"/>
      </c:barChart>
      <c:catAx>
        <c:axId val="74386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46700"/>
        <c:crosses val="autoZero"/>
        <c:auto val="1"/>
        <c:lblAlgn val="ctr"/>
        <c:lblOffset val="100"/>
        <c:noMultiLvlLbl val="0"/>
      </c:catAx>
      <c:valAx>
        <c:axId val="22646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86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EB6-FB56-443F-9850-4DB94101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EC4-9CD8-4664-B7AC-D7931BF8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EE4-DC17-462D-83B0-8BFB655E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298-CCD2-4D28-8D04-85C3C9A2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D5A-A4EB-44F2-A80B-58D62B68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4CB-6305-4693-98A0-A817D319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E66-DC87-45E6-B1ED-3B85FDDE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8E8-1C17-46E6-A580-B1E7D7DA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B8C-4D61-4510-B58A-ACCCC191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89C-C4FB-47B3-86F7-45A840A0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B33-7B25-4AC6-B504-A9E7D1DF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6555-CC04-4D33-A83D-D58AA603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39B96-06C6-4098-947E-E26C55AAFF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