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9609"/>
        <c:axId val="89807753"/>
      </c:barChart>
      <c:catAx>
        <c:axId val="77969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07753"/>
        <c:crosses val="autoZero"/>
        <c:auto val="1"/>
        <c:lblAlgn val="ctr"/>
        <c:lblOffset val="100"/>
        <c:noMultiLvlLbl val="0"/>
      </c:catAx>
      <c:valAx>
        <c:axId val="89807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9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6A4-6E90-4B71-B539-309724DA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634-82F1-401A-8E87-F1ABB720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153-FD26-4DF2-A482-D9CD8A4F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BE2-8B61-4779-B6B8-D931677F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8C1-472C-4D97-B079-26AFA114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193-47A3-41FF-8188-A089F0A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E34-5AE3-4242-B26F-5F82836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360-0328-45B8-AEC8-2C24E705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B55-120B-428E-9C56-75CA375B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73E-8AD3-4A54-9B0D-D5A8DF2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B48-0372-464A-9ED4-776A0D39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7BE-FFE3-4C97-B067-12527235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F818A-AFC4-41C1-B527-0909A5617D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