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69936"/>
        <c:axId val="22670281"/>
      </c:barChart>
      <c:catAx>
        <c:axId val="19769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70281"/>
        <c:crosses val="autoZero"/>
        <c:auto val="1"/>
        <c:lblAlgn val="ctr"/>
        <c:lblOffset val="100"/>
        <c:noMultiLvlLbl val="0"/>
      </c:catAx>
      <c:valAx>
        <c:axId val="22670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69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4C4-334A-4EE2-9F00-1F1210C8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9E4-71BB-4B88-96EE-2A6D0A39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EE2-163B-4699-9520-036267B4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FF7-79F8-4A1E-9CE9-D1DBDB20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255-C52A-4B27-90C1-54E7FC8C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54A-77EC-4E1F-AF04-FC6CA44D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592-111C-4C76-9C28-F57E61C6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A70-0826-4096-9363-7711C9B7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D685-0ECC-4638-8A4D-9E2930B9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6DF-CA73-492D-BB52-408CBE13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039-FF43-476B-A9A7-7B5B7008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E31-C1EB-4007-99BC-A0311B8C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3C1EE-DC29-4F8D-A202-9486A2B1A4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