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326"/>
        <c:axId val="230587"/>
      </c:barChart>
      <c:catAx>
        <c:axId val="644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587"/>
        <c:crosses val="autoZero"/>
        <c:auto val="1"/>
        <c:lblAlgn val="ctr"/>
        <c:lblOffset val="100"/>
        <c:noMultiLvlLbl val="0"/>
      </c:catAx>
      <c:valAx>
        <c:axId val="230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5DE-D401-48B9-9330-4879C7EB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870-11C2-4B5B-A0C2-03A144BF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F19-9877-4A6A-98FE-F73226AC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DE9-77EF-4001-845C-5CFC88B2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D51-743C-4DFD-9D78-7650305B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A85-7EC7-44F0-B11A-FB6DB2CE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B1D-8C17-4320-8B05-AFFFEDD5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2F8-373D-482C-85DB-2633FE7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74C-0156-47FA-ABD5-4BB76CA1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4BD-4245-461E-A720-26095738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C5E-1D49-4C96-99F1-6F9B6767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F41-2311-469B-8912-7772BBEC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220CF-FF98-454F-8FDE-3967041364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