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99600"/>
        <c:axId val="19040058"/>
      </c:barChart>
      <c:catAx>
        <c:axId val="6159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40058"/>
        <c:crosses val="autoZero"/>
        <c:auto val="1"/>
        <c:lblAlgn val="ctr"/>
        <c:lblOffset val="100"/>
        <c:noMultiLvlLbl val="0"/>
      </c:catAx>
      <c:valAx>
        <c:axId val="19040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9B2-88CE-42F1-A193-AC54B186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E7B-FA9D-475B-B007-916BE9EC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46F-E41A-4139-98B9-5BB4655B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576-B7A4-4608-85AD-28DC484A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594-59A7-42F1-ADC4-2C8DB4CC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522-623B-4763-B123-D7FF60A8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663-D61F-45FD-86EF-29B506D1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F6C-E8E1-4773-B5E5-C90D754C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C79-CF2D-4511-9C8A-F74B272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90A-F85E-4FEB-B225-AF53467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5AD-690A-42C2-9D4C-AAC0B69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CEC-C98F-4E61-A695-5786D40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22D7-8856-4CAF-B9AF-63646F692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