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69136"/>
        <c:axId val="15871978"/>
      </c:barChart>
      <c:catAx>
        <c:axId val="32869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71978"/>
        <c:crosses val="autoZero"/>
        <c:auto val="1"/>
        <c:lblAlgn val="ctr"/>
        <c:lblOffset val="100"/>
        <c:noMultiLvlLbl val="0"/>
      </c:catAx>
      <c:valAx>
        <c:axId val="15871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69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DA3-DB65-48BD-A44B-9E82F63C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0C3-6313-4E2B-AFCF-590A9589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7CE-2F99-403D-854B-3A24EA54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0E5-0FC8-47FB-B7BE-9DF7DBB5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0A0-03A6-4AB6-86F0-B592E33C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08F-2D52-4A2C-8CDA-F7C4AC6D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0D9-FF60-43FA-9006-C3112CB2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927-C6CA-4C1E-8AF5-3DB89F59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34C-9B90-47F1-B2AB-913D99D5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D73-01B2-4F63-9B05-D0F04470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3EF-7F8B-43EA-B5F4-11E1AC5B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FB9-6AA1-4A9B-9E1E-48984F3A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19484-A050-4C0B-9CD7-39FE1FC1B4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