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77828"/>
        <c:axId val="36177445"/>
      </c:barChart>
      <c:catAx>
        <c:axId val="45377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7445"/>
        <c:crosses val="autoZero"/>
        <c:auto val="1"/>
        <c:lblAlgn val="ctr"/>
        <c:lblOffset val="100"/>
        <c:noMultiLvlLbl val="0"/>
      </c:catAx>
      <c:valAx>
        <c:axId val="36177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77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D4F-7762-4C7F-9186-23946B6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33B-FD92-4F64-A639-C6BDDA5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CA0-4068-41ED-9B7F-C70D5E4D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D1B-7E7F-42AC-9B4E-32D147D8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14A-A531-4DC0-A17F-C735720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73B-6C2A-4F5D-B096-7A378E99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34B-AD3C-44AC-933C-EA2EA49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541-79EA-4725-B266-9E9BBDF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54D-98F3-40B1-A44E-C725AAB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125-EC61-48C6-A3EC-716B6C3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6A3-CE75-4EB0-9220-828B8010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F90-1D14-4EE3-BB10-07C52FB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A2583-3BE7-44F7-B49F-0111334E9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