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90485"/>
        <c:axId val="74062206"/>
      </c:barChart>
      <c:catAx>
        <c:axId val="9229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2206"/>
        <c:crosses val="autoZero"/>
        <c:auto val="1"/>
        <c:lblAlgn val="ctr"/>
        <c:lblOffset val="100"/>
        <c:noMultiLvlLbl val="0"/>
      </c:catAx>
      <c:valAx>
        <c:axId val="74062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9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F17-36CE-40EF-A839-830289E3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EE2-B475-4F64-ADD6-8F55C59F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8E4-41AA-4580-AB9E-53EFD2C9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544-301F-49C2-B5F0-472308CC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DA1-06F4-4274-B597-B242089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C3A-30DA-4780-8E51-E6F7772A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F73-FACE-4E9B-BE8E-CE1AE0CC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966-1539-4565-AE5C-EBD21BF5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666-0E03-40F8-8D07-2439AAAE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B49-8E77-4147-AD13-06A269CB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CD3-EE5F-4848-811C-56A26237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A7C-BAD6-4861-BAD3-D111F1D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6BA56-8C85-416A-BF91-AE54ECD39C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