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094"/>
        <c:axId val="48917229"/>
      </c:barChart>
      <c:catAx>
        <c:axId val="6040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17229"/>
        <c:crosses val="autoZero"/>
        <c:auto val="1"/>
        <c:lblAlgn val="ctr"/>
        <c:lblOffset val="100"/>
        <c:noMultiLvlLbl val="0"/>
      </c:catAx>
      <c:valAx>
        <c:axId val="489172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0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75E4-AEA7-480F-B3C9-54335364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830-3A8C-4C4F-BB18-412623F1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DDE-4F08-46F1-9ABA-363E1107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5F9-9746-4F8C-8E4C-B0E4545F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23A-71BD-4356-9098-F83C2F50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807-10FF-4EB4-A1FB-F10E1BEE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EAE4-D45E-45AD-A1CC-0127C4F9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A9F7-C1CA-487A-BA28-0F4473A2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9E1C-B510-46F6-8AB7-D4D1890F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815E-D07C-4974-A9CB-2E5C9029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16B0-A3BE-4215-B4D7-3BA9B8BE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CB5-ACB1-4D8B-9B03-BD843176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4D70B-6DEB-4D52-A61C-6D46E1E061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