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60686"/>
        <c:axId val="87831942"/>
      </c:barChart>
      <c:catAx>
        <c:axId val="950606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31942"/>
        <c:crosses val="autoZero"/>
        <c:auto val="1"/>
        <c:lblAlgn val="ctr"/>
        <c:lblOffset val="100"/>
        <c:noMultiLvlLbl val="0"/>
      </c:catAx>
      <c:valAx>
        <c:axId val="878319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606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E913-7839-428B-843B-4100AF9A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C475-6632-456B-A681-7B28F4ED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D96D-0807-4BE5-88F5-20370E48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00D-E8D1-45A5-8823-390E99E3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BCC-65AD-4D0A-97CF-B3D870DE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653-2FEE-49D3-99BD-C7FE71DF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2525-BD1B-4507-96B8-4D7D9321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AE85-2CF0-4AD3-B19A-8B71FD9C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0CC-3B74-44E8-91EE-A41296A2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E992-50A5-4D11-8D26-01708E28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6C9C-B2A7-4C09-9E50-E266AF78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2DF-A8AC-4229-8F0C-C04057BA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73E0A-8FD7-4B08-8A21-30C6276AE8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