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49491"/>
        <c:axId val="86609365"/>
      </c:barChart>
      <c:catAx>
        <c:axId val="24249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09365"/>
        <c:crosses val="autoZero"/>
        <c:auto val="1"/>
        <c:lblAlgn val="ctr"/>
        <c:lblOffset val="100"/>
        <c:noMultiLvlLbl val="0"/>
      </c:catAx>
      <c:valAx>
        <c:axId val="86609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49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085-88C5-4DFD-BEA1-E20F5463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105-E39A-4EE3-966C-69C4ABC7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E82-2BF2-461E-963A-3797A498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61E-C39A-4790-AC10-9BBFE05B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981-956C-4A55-9DD4-7CDB8BB6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C64-C559-42DF-82CE-65BE9F71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F3F-547D-4541-BB73-2B6EB035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BFA-C008-41BB-B329-96AA7847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ED5-1A85-4004-83EA-EB006BED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B40-A9DF-40B9-B015-35E0E155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663-C2D9-4A6C-AA3C-53F5B4F5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06A-0793-4C9E-B48A-84B7A369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D1AA2-978E-424B-BB7F-2B99F1D9FD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