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037141"/>
        <c:axId val="43464792"/>
      </c:barChart>
      <c:catAx>
        <c:axId val="19037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64792"/>
        <c:crosses val="autoZero"/>
        <c:auto val="1"/>
        <c:lblAlgn val="ctr"/>
        <c:lblOffset val="100"/>
        <c:noMultiLvlLbl val="0"/>
      </c:catAx>
      <c:valAx>
        <c:axId val="434647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37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B065-14D1-45A2-AFB2-CE23B48B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7FE1-8F5C-41DE-BEF2-85BDC507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D133-0A25-43AD-82C3-A6B6A46D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286D-1D6A-4E02-B1B0-A2FB638F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4F18-B687-4C10-AD28-DAF0117A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4CA-B3ED-465F-B285-AD795B4A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1F85-4A9B-4BB4-8642-D77147D9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FF1-34C1-41DB-AD82-718084E4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0193-22B3-4009-A6A1-8CA35F2B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AF03-D6C4-47A1-8E01-37134BFD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0DCF-7814-46B5-8776-97CB91A0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3DFD-7115-47CE-B3FC-7074FD76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9E042-60B7-4A59-BD2C-CF7EFE5C7C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