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27713"/>
        <c:axId val="69651027"/>
      </c:barChart>
      <c:catAx>
        <c:axId val="93127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1027"/>
        <c:crosses val="autoZero"/>
        <c:auto val="1"/>
        <c:lblAlgn val="ctr"/>
        <c:lblOffset val="100"/>
        <c:noMultiLvlLbl val="0"/>
      </c:catAx>
      <c:valAx>
        <c:axId val="69651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7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498-38D9-42CE-A74E-FE56C271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073-3CD7-4614-B7BD-E853888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8F6-D70F-4F5D-981B-F1A4A805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83F-2088-4D68-8247-C662E3C9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8AA-61D4-4311-A795-1330702D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DF0-21BD-4E3F-A72F-3D9E58F9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53A-064B-4523-9D4C-FF9EB3D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333-6327-48BA-828E-994BD0B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D8A-DE4B-402D-9A41-C9F7FDD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597-8335-4CBA-B47B-BB227E8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587-8EBE-4AE0-A30F-0C7F733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D84-885D-4365-99B5-FB539E8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C878D-440B-42C8-B2C8-835F2E036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